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BFB-0ECF-4A1A-8540-055B8D62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FF2-36D7-4D46-AE49-24EA8154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58A-B1B8-4E14-84BD-D36953E3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06E-944B-42AA-84E8-25172502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3C4-EA6C-4D56-A0D0-ECE07623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C00-CF6A-42EA-A6DC-FEA9510C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B78-84EA-4233-81FD-B721A2B3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F0B2-94AD-4B9F-8CB2-F78206DD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49D-B417-4A62-A8AB-CD9D6CAD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D9F-73A6-4F6C-B4F1-B255E641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584-DBCD-4B23-B65E-239C6D9D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B98-1FA3-4DF6-AD68-D0115B6C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7678-57C7-44F6-95D2-6FC5F72C4FAA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330F-5C0B-45BA-B80A-17F4E05FAD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81C7-2CAA-405B-B771-0BEA56E961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CP Darío Rajmilovi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rajmilovich@estudiorajmilovich.com.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70c0"/>
                </a:solidFill>
                <a:latin typeface="Arial"/>
              </a:rPr>
              <a:t>Las regalías y los derechos de licencia. Divergencias en el tratamiento aduanero, impositivo y cambi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1"/>
          <p:cNvSpPr/>
          <p:nvPr/>
        </p:nvSpPr>
        <p:spPr>
          <a:xfrm>
            <a:off x="2991240" y="6461280"/>
            <a:ext cx="34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4° Congreso Tributario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FEF4-5042-47C5-996B-CE01801B93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18320" cy="30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Falta de armonización tribu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ts val="15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just"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Base de imposición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375480" algn="just"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Valoración aduanera (VA) vs. base imponible IG (Precios de Transferen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375480" algn="just"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Regalías vs impor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just"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Tempor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375480" algn="just"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Perfeccionamiento de los hechos imponibles regalías vs importación para el 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375480" algn="just"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Imputación del gasto para el I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just"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Cambiario: DJAS vs DJ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79280" y="43920"/>
            <a:ext cx="86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70c0"/>
                </a:solidFill>
                <a:latin typeface="Arial"/>
              </a:rPr>
              <a:t>Las regalías y los derechos de licencia. Divergencias en el tratamiento aduanero, impositivo y cambi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3"/>
          <p:cNvSpPr/>
          <p:nvPr/>
        </p:nvSpPr>
        <p:spPr>
          <a:xfrm>
            <a:off x="2991240" y="6461280"/>
            <a:ext cx="34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4° Congreso Tributario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3E2B-B9E7-478C-BF7C-DB9C3C73069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1832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Base de im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ts val="15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98960" algn="just"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Valoración aduanera (VA) vs. base imponible IG (Precios de Transferen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98960" algn="just">
              <a:spcBef>
                <a:spcPts val="524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Arial"/>
              </a:rPr>
              <a:t>Intereses contrapuestos en la agencia aduanera (DGA) y la agencia impositiva (DG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98960" algn="just"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Distinta metodología y tim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332280" algn="just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VA: art.1 a 7 Acuerdo GATT: valor de transacción (noción posi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332280" algn="just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T: art.14, 15, 15bis, RG AFIP 1122: arm´s length (noción teóric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ts val="15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70c0"/>
                </a:solidFill>
                <a:latin typeface="Arial"/>
              </a:rPr>
              <a:t>Convergencia: vincular métodos subsidiarios (art.2 a 7) con metodología de PT sobre precios (CUP, RM, CP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79280" y="43920"/>
            <a:ext cx="86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70c0"/>
                </a:solidFill>
                <a:latin typeface="Arial"/>
              </a:rPr>
              <a:t>Las regalías y los derechos de licencia. Divergencias en el tratamiento aduanero, impositivo y cambi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2991240" y="6461280"/>
            <a:ext cx="34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4° Congreso Tributario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F5AD-5F26-4732-A918-F175C6BFC13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8920" y="885960"/>
            <a:ext cx="851868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Base de im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0" algn="just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Regalías vs impor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algn="just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Retenciones en la fu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algn="just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Restricciones en la deducibilidad de los car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algn="just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plicación de distintas tasas de impuesto en el país de residencia (caso de los regímenes de “patent box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0" algn="just">
              <a:lnSpc>
                <a:spcPts val="15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70c0"/>
                </a:solidFill>
                <a:latin typeface="Arial"/>
              </a:rPr>
              <a:t>Convergenc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51"/>
              </a:spcBef>
              <a:buClr>
                <a:srgbClr val="0070c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70c0"/>
                </a:solidFill>
                <a:latin typeface="Arial"/>
              </a:rPr>
              <a:t>regular desagregación del componente intangible en el pago de importaciones o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51"/>
              </a:spcBef>
              <a:buClr>
                <a:srgbClr val="0070c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70c0"/>
                </a:solidFill>
                <a:latin typeface="Arial"/>
              </a:rPr>
              <a:t>Propiciar firmar de APA y de acuerdos automáticos de información en materia impositiva y aduan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51"/>
              </a:spcBef>
              <a:buClr>
                <a:srgbClr val="0070c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70c0"/>
                </a:solidFill>
                <a:latin typeface="Arial"/>
              </a:rPr>
              <a:t>Anular CDI cuando el beneficiario efectivo esté sujeto a régimen especial que implique tasa efectiva reducida (norma inte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79280" y="-100440"/>
            <a:ext cx="86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70c0"/>
                </a:solidFill>
                <a:latin typeface="Arial"/>
              </a:rPr>
              <a:t>Las regalías y los derechos de licencia. Divergencias en el tratamiento aduanero, impositivo y cambi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3"/>
          <p:cNvSpPr/>
          <p:nvPr/>
        </p:nvSpPr>
        <p:spPr>
          <a:xfrm>
            <a:off x="2991240" y="6461280"/>
            <a:ext cx="34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4° Congreso Tributario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F4BA-D9F7-403B-A8F4-B0F4084C02F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1029960"/>
            <a:ext cx="851868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empor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 algn="just">
              <a:lnSpc>
                <a:spcPts val="9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(i) Perfeccionamiento de los hechos imponibles de regalías vs importación para el 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algn="just">
              <a:spcBef>
                <a:spcPts val="524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Arial"/>
              </a:rPr>
              <a:t>Posible doble de incidencia (importación art.8, c) Acuerdo GATT como adición de valor cuando la regalía o licencia es condición de venta, y regalías –importación de servicios-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55680" algn="just">
              <a:spcBef>
                <a:spcPts val="524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Arial"/>
              </a:rPr>
              <a:t>Divergencia en los momentos de perfeccionamiento (oficialización de DI vs servicio continu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 algn="just">
              <a:lnSpc>
                <a:spcPts val="998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70c0"/>
                </a:solidFill>
                <a:latin typeface="Arial"/>
              </a:rPr>
              <a:t>Convergenc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0070c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70c0"/>
                </a:solidFill>
                <a:latin typeface="Arial"/>
              </a:rPr>
              <a:t>Regular desagregación del componente intangible en el pago de importaciones o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0070c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70c0"/>
                </a:solidFill>
                <a:latin typeface="Arial"/>
              </a:rPr>
              <a:t>En caso de ajuste art.8, c) Acuerdo GATT: hacer prevalecer el hecho imponible de la importación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179280" y="43920"/>
            <a:ext cx="86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70c0"/>
                </a:solidFill>
                <a:latin typeface="Arial"/>
              </a:rPr>
              <a:t>Las regalías y los derechos de licencia. Divergencias en el tratamiento aduanero, impositivo y cambi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2991240" y="6461280"/>
            <a:ext cx="34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4° Congreso Tributario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BF5F-0EB0-4E2A-B9E7-21380027EE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1832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empor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(ii) Imputación del gasto en el 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100" spc="-1" strike="noStrike">
                <a:solidFill>
                  <a:srgbClr val="000000"/>
                </a:solidFill>
                <a:latin typeface="Arial"/>
              </a:rPr>
              <a:t>En el caso de las importaciones, con el costeo o vía amortización. En el caso de las regalías, con el devengamiento de los cargo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ts val="15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70c0"/>
                </a:solidFill>
                <a:latin typeface="Arial"/>
              </a:rPr>
              <a:t>Convergenc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70c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70c0"/>
                </a:solidFill>
                <a:latin typeface="Arial"/>
              </a:rPr>
              <a:t>Regular desagregación del componente intangible en el pago de importaciones o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79280" y="43920"/>
            <a:ext cx="86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70c0"/>
                </a:solidFill>
                <a:latin typeface="Arial"/>
              </a:rPr>
              <a:t>Las regalías y los derechos de licencia. Divergencias en el tratamiento aduanero, impositivo y cambi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3"/>
          <p:cNvSpPr/>
          <p:nvPr/>
        </p:nvSpPr>
        <p:spPr>
          <a:xfrm>
            <a:off x="2991240" y="6461280"/>
            <a:ext cx="34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4° Congreso Tributario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F770-702E-47FE-A025-C30AAC473A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1832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égimen camb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ts val="15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- DJAS vs DJA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70c0"/>
                </a:solidFill>
                <a:latin typeface="Arial"/>
              </a:rPr>
              <a:t>Convergenc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70c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70c0"/>
                </a:solidFill>
                <a:latin typeface="Arial"/>
              </a:rPr>
              <a:t>Regular desagregación del componente intangible en el pago de importaciones o de servicios sometiendo al régimen de DJAS en forma análoga a pactarse regalías en forma desagreg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79280" y="43920"/>
            <a:ext cx="86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70c0"/>
                </a:solidFill>
                <a:latin typeface="Arial"/>
              </a:rPr>
              <a:t>Las regalías y los derechos de licencia. Divergencias en el tratamiento aduanero, impositivo y cambi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3"/>
          <p:cNvSpPr/>
          <p:nvPr/>
        </p:nvSpPr>
        <p:spPr>
          <a:xfrm>
            <a:off x="2991240" y="6461280"/>
            <a:ext cx="34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4° Congreso Tributario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1CAB-085A-454B-B443-8F8102DC0D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86" name="WordArt 6"/>
          <p:cNvSpPr txBox="1"/>
          <p:nvPr/>
        </p:nvSpPr>
        <p:spPr>
          <a:xfrm>
            <a:off x="1619280" y="2276640"/>
            <a:ext cx="590544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chas graci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ncampregher</cp:lastModifiedBy>
  <dcterms:modified xsi:type="dcterms:W3CDTF">2013-09-25T14:56:46Z</dcterms:modified>
  <cp:revision>18</cp:revision>
  <dc:subject/>
  <dc:title>Diapositiva 1</dc:title>
</cp:coreProperties>
</file>